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70374"/>
        <c:axId val="95434101"/>
      </c:barChart>
      <c:catAx>
        <c:axId val="69370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34101"/>
        <c:crosses val="autoZero"/>
        <c:auto val="1"/>
        <c:lblAlgn val="ctr"/>
        <c:lblOffset val="100"/>
        <c:noMultiLvlLbl val="0"/>
      </c:catAx>
      <c:valAx>
        <c:axId val="95434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70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4E8-62DE-4CFC-B222-0733980A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E0E-A767-437E-B574-60806E86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585-8BE5-4CFA-8A1E-2DD7C318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8D4-ED9F-4B06-BAA9-1BAA17DB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1BD-C0D3-44F4-9CBA-99F2B3C9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362-B430-4D4E-9AC3-B15970DB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3B7-1ECA-4693-A662-D0DE2C85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E73-BC65-4740-A8A7-C22C53AB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37F-E533-4D7A-A8DC-82A104C3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D26-EBB7-4209-A75D-85258AD0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7DA-2F8F-4FAE-BBBA-FFEBD2B9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0D8-0757-4D2B-A25D-FC94DBF2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9064C-0A90-46AB-B02A-7C6D23689C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