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52360"/>
        <c:axId val="15957666"/>
      </c:barChart>
      <c:catAx>
        <c:axId val="38252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57666"/>
        <c:crosses val="autoZero"/>
        <c:auto val="1"/>
        <c:lblAlgn val="ctr"/>
        <c:lblOffset val="100"/>
        <c:noMultiLvlLbl val="0"/>
      </c:catAx>
      <c:valAx>
        <c:axId val="15957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52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5EF-7B3E-43DD-95EC-52BB8FB2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5F8-E482-4EAB-B3AF-459A2FBE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CEC-7326-4CD3-9DDC-835DE3B2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7F6-6E55-48F9-BCF2-C9308540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440-05D2-4B2F-8D3A-1DC46F84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23F-8191-43C0-A5EB-2A56B8A9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22F-9D5C-4A5B-A5AB-A4802F81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A09-15D3-4E00-BF13-A930B0D3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1E2-AD46-4845-8760-570B3609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D89-6557-4250-8804-2CEAFE8F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D2B-0B73-470D-8A4E-2FBDCB7D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6B0-4E6D-4F24-80FC-15660B7C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A3E2B-DBB0-4E92-B832-DC16921CD6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