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18184"/>
        <c:axId val="62333243"/>
      </c:barChart>
      <c:catAx>
        <c:axId val="44181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333243"/>
        <c:crosses val="autoZero"/>
        <c:auto val="1"/>
        <c:lblAlgn val="ctr"/>
        <c:lblOffset val="100"/>
        <c:noMultiLvlLbl val="0"/>
      </c:catAx>
      <c:valAx>
        <c:axId val="623332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181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DE05-B6CF-4DE8-B4B8-F279AACC5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052C-2B2F-446E-89D0-0E11FBF19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5480-45AA-4440-91A3-3F07A9577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3386-6827-4106-9CE0-22F2B5F30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7917-5656-41E4-BDA0-214C9D094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8AE2-326F-4B6A-9C18-77E0EB57F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A0F9-F8D1-4CE5-A84F-AD6D230CD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55EE-918E-419A-81B8-6655630EE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A8CD-80DE-4552-ADA3-A14A616C1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DAD7-B857-442D-AD49-EF822417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A400-0391-4672-A5AA-408CC03F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9067-6EBA-4A03-9949-50DA52B8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B70945-0B50-4232-86D7-8BA7D32140D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