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98572"/>
        <c:axId val="45903906"/>
      </c:barChart>
      <c:catAx>
        <c:axId val="49398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03906"/>
        <c:crosses val="autoZero"/>
        <c:auto val="1"/>
        <c:lblAlgn val="ctr"/>
        <c:lblOffset val="100"/>
        <c:noMultiLvlLbl val="0"/>
      </c:catAx>
      <c:valAx>
        <c:axId val="45903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98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425-9370-4E46-8D75-21A90C37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9BE-0DA5-4761-885B-8DAFB65F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9AC-B4C9-4394-BC2D-8D92DF3B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E02-CC75-47E3-86FA-0F928106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C68-8088-4CDF-B5FB-0CD7ECFA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503-39E5-4049-9337-4CA1F3E9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C56-D8F8-4D5E-8798-BF0EA728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7C9-59BD-431A-8D9A-0AC549E7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25B-83EC-434F-8681-A42B67C0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494-84E5-45B2-A2F4-08B8CDF0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789-3A0E-4B82-AF4B-BEC30118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0C8-FD80-43E6-9D9E-7581AD20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6B851-BCAE-410C-80F9-CD7AA37178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