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40339"/>
        <c:axId val="37247283"/>
      </c:barChart>
      <c:catAx>
        <c:axId val="70140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47283"/>
        <c:crosses val="autoZero"/>
        <c:auto val="1"/>
        <c:lblAlgn val="ctr"/>
        <c:lblOffset val="100"/>
        <c:noMultiLvlLbl val="0"/>
      </c:catAx>
      <c:valAx>
        <c:axId val="37247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0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691-070C-4CBC-853E-A9224A1C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01A-B38F-4DD0-8761-9682F3C5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24E-4D94-44B1-938E-133005FB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3D3-B9F1-4C43-9217-F57CA655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C0C-86C6-4870-A698-DB3BF0E5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72D-49E4-4F3D-8CF7-74CB5CA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5F6-2361-43FF-9395-53508183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A46-AC72-47A4-945D-E7CCC551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CFB-A205-476B-9753-CEA4358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C73-70BA-45AA-9872-CA1DA70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FD5-E035-4813-9FED-793E647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81E-1099-4BD5-9A0C-9CFDFABA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C59EF-458B-4FAC-B960-0921C3D26B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