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61581"/>
        <c:axId val="68842857"/>
      </c:barChart>
      <c:catAx>
        <c:axId val="14061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42857"/>
        <c:crosses val="autoZero"/>
        <c:auto val="1"/>
        <c:lblAlgn val="ctr"/>
        <c:lblOffset val="100"/>
        <c:noMultiLvlLbl val="0"/>
      </c:catAx>
      <c:valAx>
        <c:axId val="68842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61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C89-8260-4719-97B3-150EC3DC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24B-6AD8-4495-89A2-73C3E541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161-E62F-4BD3-A51E-1E2B493C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841-F4AF-4380-B50E-14A5A623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668-FF1E-4DFE-AF79-B517A94E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503-2A93-4D38-852B-DDAC4627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ACB-657F-4CE4-892D-9EB846DB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CBC-AE93-44FC-AE3B-3A5243E6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786-E938-4D40-8894-82944797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072-F016-4B48-BEDF-B32FF2CC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15A1-40FC-44F7-A284-B6539182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6E82-706E-4AD6-83C2-AF964EC1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94BE7-62C3-49BA-A5F0-E766F50EAF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