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80250"/>
        <c:axId val="43387689"/>
      </c:barChart>
      <c:catAx>
        <c:axId val="74380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87689"/>
        <c:crosses val="autoZero"/>
        <c:auto val="1"/>
        <c:lblAlgn val="ctr"/>
        <c:lblOffset val="100"/>
        <c:noMultiLvlLbl val="0"/>
      </c:catAx>
      <c:valAx>
        <c:axId val="43387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0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3C6-2CB2-49F6-86A0-5AD0DCE6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E55-D6B9-4633-956A-6C1347C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78F-12F4-4547-BEAF-E3DFF886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84D-46B6-48CA-B910-5B10437B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3FD-6139-4CE3-AA30-FC71BCBA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089-B99A-4465-97E0-8868B07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67D-4698-4A9E-B3BE-2FD01F4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CB7-8335-4319-863D-F986FEC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7BF-4E4E-4E6C-8893-E2C0387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E5D-4165-415E-BC2A-5058415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3D4-A162-4DF2-9D55-D764532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92C-BB8E-4A35-8BDE-C73A52A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9F00-B0F6-445D-9D45-E67A87803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