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34221"/>
        <c:axId val="59379043"/>
      </c:barChart>
      <c:catAx>
        <c:axId val="54634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79043"/>
        <c:crosses val="autoZero"/>
        <c:auto val="1"/>
        <c:lblAlgn val="ctr"/>
        <c:lblOffset val="100"/>
        <c:noMultiLvlLbl val="0"/>
      </c:catAx>
      <c:valAx>
        <c:axId val="59379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34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FF5-5FE6-4216-B1C2-94CA4E13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AEE-063F-430A-AF6E-129D3908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808-DA05-4B3E-9D25-A10CE8C0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3FD-B69A-4518-8909-DABFD47B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682-8A32-48B2-BBAD-1F15D079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F7F-B027-4F04-AAE0-9E1952E2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B41-B7C4-4488-B602-1F51571E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5F7-79F4-4F7C-B1E6-E5FB35A9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3E1-A75B-4FDF-B788-7B20FE15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E42-D2BD-45A9-9D35-7077C582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245-AECF-43AF-B21F-75D5E181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303-F9AA-44E7-B4C1-708FE7E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D7A1C-BB4C-4AB3-8E21-AF73021089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