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879084"/>
        <c:axId val="2748273"/>
      </c:barChart>
      <c:catAx>
        <c:axId val="658790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48273"/>
        <c:crosses val="autoZero"/>
        <c:auto val="1"/>
        <c:lblAlgn val="ctr"/>
        <c:lblOffset val="100"/>
        <c:noMultiLvlLbl val="0"/>
      </c:catAx>
      <c:valAx>
        <c:axId val="27482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790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EE3F-DB51-49AD-90BB-25595C526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D0E-6EEA-486F-97B3-A1BA6453F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AA02-58EE-482B-BF2A-FE16D862B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AB0F-BA24-44B5-9665-2A060CED9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AEF-0A7D-4BDC-84F7-60301C11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ED46-95A9-4CCF-B84B-E26A56E11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7903-47BF-4F36-BE2B-DF7FE444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CFF6C-47F7-4457-AF96-F592400D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0BC1-C535-4CC2-B4E5-059DF86F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A7F-5F6B-4AE4-8B0B-AF3C0DE0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11F-EFBB-4DA0-B363-EE763224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96D2-3976-4B9E-9DDB-8A9058369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524B63-5793-4206-883E-6B7BB879DD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