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01182"/>
        <c:axId val="24257169"/>
      </c:barChart>
      <c:catAx>
        <c:axId val="34901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57169"/>
        <c:crosses val="autoZero"/>
        <c:auto val="1"/>
        <c:lblAlgn val="ctr"/>
        <c:lblOffset val="100"/>
        <c:noMultiLvlLbl val="0"/>
      </c:catAx>
      <c:valAx>
        <c:axId val="24257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01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A02-77F5-4E81-B86F-A678B207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DEF-EFE1-4A25-929B-F7533519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F86-8ED0-49C0-9AFC-143950CC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5B5-CEF7-42EC-8EDD-9087E48E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551-6309-43C8-B2D1-702AB92A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F2B-A065-4220-ACFA-1EB75B71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B49-2705-4C57-AE3D-121D9926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131-FADC-49A1-A6D0-3F2550BE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A4B-FF86-4E6D-B954-8FFDB024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16F-B6B5-42C0-8243-8C9A9EAC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9B2-8B25-457F-8717-81649679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35A-A161-4FB7-914E-64834129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1D50B-E0C9-4CA6-BAEA-7091673D75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