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74015"/>
        <c:axId val="47233759"/>
      </c:barChart>
      <c:catAx>
        <c:axId val="18474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33759"/>
        <c:crosses val="autoZero"/>
        <c:auto val="1"/>
        <c:lblAlgn val="ctr"/>
        <c:lblOffset val="100"/>
        <c:noMultiLvlLbl val="0"/>
      </c:catAx>
      <c:valAx>
        <c:axId val="47233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74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9D3-B387-47C2-82A0-805F75EB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85C-74E4-4929-BA72-FDE6F360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4A1-AB0C-4441-B5E5-3E4B648A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EB7-3BAD-4092-BE5E-C6576C22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ACA-8CF2-41C4-969E-4F3B74EF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7A3-632F-4EBD-BFA9-124EE0D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F14-0141-4BAE-B002-256E7E97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C6A-3064-4904-9727-4FCB52C9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E22-82DF-4E4E-805A-4213D9E3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D03-C008-43BB-9774-70EAF2BA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D3C-12F4-43CC-A81F-BCEC0AEC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C5C-2E92-443C-9B37-F822848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06373-9681-4934-9B5A-E60F52528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