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267853"/>
        <c:axId val="69051313"/>
      </c:barChart>
      <c:catAx>
        <c:axId val="252678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051313"/>
        <c:crosses val="autoZero"/>
        <c:auto val="1"/>
        <c:lblAlgn val="ctr"/>
        <c:lblOffset val="100"/>
        <c:noMultiLvlLbl val="0"/>
      </c:catAx>
      <c:valAx>
        <c:axId val="690513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2678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14B9-4042-480B-B09E-AEB017CF2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C67C-94DD-4929-8941-6F13D365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3204-3A2B-4E82-B8A3-CCC4DD0FE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4014-18B8-4EBF-8763-5C81A464F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1685-B1D7-4E7B-9029-E81F7A36C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3211-177E-46F4-AD18-196A3B9D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C5C4-030C-4F97-AA5C-7AAB999C2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3E59-CB6F-49DE-995B-2619C95F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9096-9B2A-4BFD-B5C9-317CBD3B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D35A-910A-4FB0-A148-CDD28627B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3188-DB43-4DFB-9F40-7FB15D83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8A3E-3C53-4885-88D3-B7BDB1F4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3D846-28DE-4969-8CA5-6955193DEB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