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69892"/>
        <c:axId val="40412274"/>
      </c:barChart>
      <c:catAx>
        <c:axId val="66669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12274"/>
        <c:crosses val="autoZero"/>
        <c:auto val="1"/>
        <c:lblAlgn val="ctr"/>
        <c:lblOffset val="100"/>
        <c:noMultiLvlLbl val="0"/>
      </c:catAx>
      <c:valAx>
        <c:axId val="40412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69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3EA-4FA2-4502-920F-86DD594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08B-5256-46A5-B7DC-7119E30F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F96-A45E-472F-A903-AC65A1CD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6DA-8856-4845-B170-A253EA63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FE2-611D-4F3A-BA68-9974DE8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7B6-0F42-4C2D-8AFE-500A7227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6AD-AE52-4E92-9466-7AAEC39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20D-85EE-47E7-9656-48880DE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66E-EA55-4015-BED5-DEA0109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AFB-B48E-40E4-A76C-FC0A94E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4B5-5F5D-452E-9617-AED73EF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5D6-7183-452D-B17D-E82653D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E374F-1131-45E1-8273-196DF93B1F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