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953156"/>
        <c:axId val="71679680"/>
      </c:barChart>
      <c:catAx>
        <c:axId val="439531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79680"/>
        <c:crosses val="autoZero"/>
        <c:auto val="1"/>
        <c:lblAlgn val="ctr"/>
        <c:lblOffset val="100"/>
        <c:noMultiLvlLbl val="0"/>
      </c:catAx>
      <c:valAx>
        <c:axId val="71679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9531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DEE-0331-4E0D-8B38-6BF32E519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F75-6AE5-47D0-A015-D53CB0F5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2E84-B96C-4065-B195-15DA0FD7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C454-6BD9-4DE6-80AD-1A1FB37F8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32CE-31B6-4142-A382-C758C0C7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73D1-0F61-45F3-AFC8-2AA28430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5E39-490D-4509-8650-BD1084AAC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F2C5-B92A-486E-BA94-49996973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9FC9-079B-4B27-B7FF-FFFEED62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8E21-7372-4F2B-AFE0-46766B94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EA5C-BBFD-49F1-864B-6AAD76A5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339E-A99F-407F-ADED-7024268E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EC5B49-E70D-42C6-96FB-8AC15EB556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