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247479"/>
        <c:axId val="58781"/>
      </c:barChart>
      <c:catAx>
        <c:axId val="47247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81"/>
        <c:crosses val="autoZero"/>
        <c:auto val="1"/>
        <c:lblAlgn val="ctr"/>
        <c:lblOffset val="100"/>
        <c:noMultiLvlLbl val="0"/>
      </c:catAx>
      <c:valAx>
        <c:axId val="587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47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7704-6602-4FD7-A2B2-4F22145A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B2E2-FCD2-4F47-A093-9682392D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4FB5-61D2-4434-A848-EAFE7091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4422-02CB-4361-AC51-86A1DC2C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D8E4-F104-4041-B616-78EA9493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E404-A0FD-4028-9232-3CBA5CF8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90FB-E9F4-4CE7-91BA-39473D58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21E4-8708-4270-895B-65432CB0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521C-74B3-47B7-8E42-22E79517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45BE-7919-4D07-A520-CF445014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D372-1B2B-4BBF-9F4F-B022F853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21B0-FDCB-42EF-857C-DDEF7B06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2540B-0856-40B9-9BD4-8F51CB693D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