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73126"/>
        <c:axId val="50164408"/>
      </c:barChart>
      <c:catAx>
        <c:axId val="80173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64408"/>
        <c:crosses val="autoZero"/>
        <c:auto val="1"/>
        <c:lblAlgn val="ctr"/>
        <c:lblOffset val="100"/>
        <c:noMultiLvlLbl val="0"/>
      </c:catAx>
      <c:valAx>
        <c:axId val="50164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73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2F6-23B8-40D4-A94C-1274AB47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466-277A-47F4-A760-0160CAEA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FB3-619B-4E45-B5E9-08D7A86B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F22-2259-471C-AFDC-496D248E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21D-B208-408B-BB12-0D131C78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3BE-214D-4ED4-A3AA-6DFD5D86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35C-69FF-4000-B3C4-3CADDA10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994-2F68-4EC9-8C8B-49922002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A8D-7739-48EB-A69B-F96115A8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33E-15EC-46EB-873A-6B7F440C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EC4-92E3-4E3B-A251-779867C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4AB-ACF1-4DBA-BFB6-C6957C53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768C2-B8FD-4627-8DE5-9A1357ACE3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