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07367"/>
        <c:axId val="31226468"/>
      </c:barChart>
      <c:catAx>
        <c:axId val="48507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26468"/>
        <c:crosses val="autoZero"/>
        <c:auto val="1"/>
        <c:lblAlgn val="ctr"/>
        <c:lblOffset val="100"/>
        <c:noMultiLvlLbl val="0"/>
      </c:catAx>
      <c:valAx>
        <c:axId val="31226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07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C77-23C4-4928-BB14-2461072E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B0C-5BC7-4BB3-9D6E-38A2909C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E51-32E6-4293-AA5C-96D0C356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BB6-7883-47C6-8E8C-966C1369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D95-0986-415F-9C86-E392F953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B85-2448-42A6-94F0-6B2F8F9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508-CBFC-4FED-B5A7-19FE70C7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EDB-71B9-4593-B799-2C62EFC7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32F-B34E-4A38-97F2-441A753A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EEF-B780-4477-8ED4-1BC1426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8AA-67D0-44B1-A9D4-ED70900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ECA-3718-4A49-B89F-07A0007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80B71-2F3E-4EAE-A7B9-203D33884A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