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78847"/>
        <c:axId val="87653722"/>
      </c:barChart>
      <c:catAx>
        <c:axId val="46978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53722"/>
        <c:crosses val="autoZero"/>
        <c:auto val="1"/>
        <c:lblAlgn val="ctr"/>
        <c:lblOffset val="100"/>
        <c:noMultiLvlLbl val="0"/>
      </c:catAx>
      <c:valAx>
        <c:axId val="87653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78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DE1-7A3C-413B-A391-2EE42D26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06F-3546-47C8-A0D3-1508D760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0A8-E1D8-47CD-94D3-198DDB93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F71-CD60-4D2E-9B86-BE07B6D9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19F-884B-402F-A0C7-80DE260E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BC0-F3D3-4CBF-9E26-A1B22E01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95D-67B0-4310-B77C-3E993493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91A-9605-4F44-BB99-91E5C9B9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D62-62BF-4145-B854-CBD24D70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6EE-E62B-4151-92B4-2AE83C5E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7FF-CB21-492E-A81E-CC206D6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F09-7F98-4D85-AD4F-7B9CA3D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F1827-25FE-4B1A-AA2C-4DD5A0E3F2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