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0457109"/>
        <c:axId val="4407053"/>
      </c:barChart>
      <c:catAx>
        <c:axId val="8045710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07053"/>
        <c:crosses val="autoZero"/>
        <c:auto val="1"/>
        <c:lblAlgn val="ctr"/>
        <c:lblOffset val="100"/>
        <c:noMultiLvlLbl val="0"/>
      </c:catAx>
      <c:valAx>
        <c:axId val="440705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45710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1741-6614-4BA9-B9FD-F989EE23A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0DF9-5584-4E73-BB04-417AACCBC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BE90-AB0B-468B-BDF1-B05C91F5E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792A-97B2-48AF-928B-B7CBB29C9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0989-A721-46E6-933F-F9E80F5E2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A734-938B-4F98-AE5E-7CFDF839E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82DD-118A-4E6E-99C8-0A57AE20D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C5C6-6329-47A3-9433-BE671DEAF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975D-1726-4BA6-B0C2-4FC9A198B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3F37-EFCC-4C46-ACF6-8DE46E89A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B89E-F533-47BF-A584-1E5C9CCD9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49D3-33B9-49AC-A1C7-2147090A2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722569-2273-402E-A658-4160FBCD0ED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