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110898"/>
        <c:axId val="19590325"/>
      </c:barChart>
      <c:catAx>
        <c:axId val="871108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590325"/>
        <c:crosses val="autoZero"/>
        <c:auto val="1"/>
        <c:lblAlgn val="ctr"/>
        <c:lblOffset val="100"/>
        <c:noMultiLvlLbl val="0"/>
      </c:catAx>
      <c:valAx>
        <c:axId val="1959032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1108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3201-07B9-48AA-BFB7-A1D588FA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8876-E3EB-44A4-BA72-B61296ED6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A2D1-2FC3-427D-BAE6-E1EDF970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3A8A-EF58-4C2E-A387-27D022D8A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2C0A8-33C6-4096-86CB-1938D686E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4633-A1D1-430F-85BB-CAFC057A1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231F-66F3-45F7-A622-6AD8287E8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6AA5-A93B-4849-8C90-1E6288347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C42A-E8A0-410D-B96E-CD25AF7C3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76DB-5610-4F7E-8292-9A809559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61780-E272-48FC-A360-5947A065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051A-7406-473F-860F-918929136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88E0F0-B658-48F0-8810-040E70971C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