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94129"/>
        <c:axId val="92265955"/>
      </c:barChart>
      <c:catAx>
        <c:axId val="28794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5955"/>
        <c:crosses val="autoZero"/>
        <c:auto val="1"/>
        <c:lblAlgn val="ctr"/>
        <c:lblOffset val="100"/>
        <c:noMultiLvlLbl val="0"/>
      </c:catAx>
      <c:valAx>
        <c:axId val="92265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94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763-5F58-4C5B-BAC1-0FBC2D0F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1C0-9DBE-454E-BD00-D23CD154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F03-4F3C-49D1-81B1-B7FBE9A0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2A6-92F0-4C81-94F7-569B357F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A00-93D8-4E17-AD01-9376F0D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C29-7180-449C-9DC0-A1D6C35A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E92-A0CE-46DE-8254-1BBC1FC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D9D-F6B5-4959-B4CA-F553E523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0D2-2A9A-4A03-9B6B-574044A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6A6-E7CC-4F5F-B9FB-97E6752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F55-F7C1-44A4-A142-5083BC1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AA8-36EE-47B4-BD91-46B2454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31EA0-8320-4B11-8381-E799D590E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