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155324"/>
        <c:axId val="96114716"/>
      </c:barChart>
      <c:catAx>
        <c:axId val="715532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114716"/>
        <c:crosses val="autoZero"/>
        <c:auto val="1"/>
        <c:lblAlgn val="ctr"/>
        <c:lblOffset val="100"/>
        <c:noMultiLvlLbl val="0"/>
      </c:catAx>
      <c:valAx>
        <c:axId val="9611471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5532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36249-0EF4-4662-9291-2B5D294A5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773DF-3E45-4931-82A6-39724FE81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ED9C8-D1A8-41AB-9EA6-6635F7DC3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E5E8F-D888-4C1B-AA76-F7CDEE435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71752-3626-4E0F-B26E-DB04C3C6B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1218F-04F5-4355-BE85-48EF01557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49F13-1A66-4F6E-AA7B-6AFF327E0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1923A-10C9-4EF1-8F73-13C49B2FD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7DBD5-E6F8-441F-A121-3D2E6DDAF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B7700-C1F0-4AC9-9877-118E4FA5A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07F06-5DDF-441E-AF7F-CF27BD321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79A27-AB02-47DD-A1BA-5049D0778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2E4091-8B4D-4265-B54E-C9D5D1E6A0C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