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053837"/>
        <c:axId val="14788097"/>
      </c:barChart>
      <c:catAx>
        <c:axId val="600538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788097"/>
        <c:crosses val="autoZero"/>
        <c:auto val="1"/>
        <c:lblAlgn val="ctr"/>
        <c:lblOffset val="100"/>
        <c:noMultiLvlLbl val="0"/>
      </c:catAx>
      <c:valAx>
        <c:axId val="147880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0538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F6C8-2191-48BD-BFA7-E9E798C6E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6BF8-8083-4E81-9F34-FBBEE494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EF69-3A1C-40A8-A3DE-0B67A5208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D93F-E2F9-4889-AA4A-5A7880D72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5FD3-4CC7-4C46-AC88-9F8E3326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9881-CC86-4F3A-A9B5-C0357011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4E54-6E75-4A62-9938-94B95FFD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2C63-BF60-42B2-93BC-9185CC3B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384B-8074-4352-8353-080D2E01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B6DD-405C-4C43-A2DE-2F87D551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610F-3061-427A-9E7A-9CF24160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627A-3755-426E-AAC0-E08AE0FB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D3C884-80D4-4091-A5F3-9CE890E927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