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59580"/>
        <c:axId val="33767161"/>
      </c:barChart>
      <c:catAx>
        <c:axId val="42159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67161"/>
        <c:crosses val="autoZero"/>
        <c:auto val="1"/>
        <c:lblAlgn val="ctr"/>
        <c:lblOffset val="100"/>
        <c:noMultiLvlLbl val="0"/>
      </c:catAx>
      <c:valAx>
        <c:axId val="33767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59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920-80EE-4290-A3E7-393C1837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FC3-9F73-41B0-985A-3A4455FF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6B6-EE23-4788-A5DB-67084FC8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EBD9-800B-49C0-8DA1-55BCCBBD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CD5-BB34-48FB-A7FA-15F293C9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2BF-3393-40C2-B1E8-2832A7A7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388-8144-47FA-88BE-4D0CF67D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349-A0E8-4204-8C88-5BC30184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A38-54F1-48D5-BB32-68451DA8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9A9-8867-4DF4-86CC-5CAF8152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E7C8-A493-4741-9F45-37A5AF0D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DA0-4FDF-4A90-A4F8-54586655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F3353-ED24-44E1-A53A-3421411317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