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35469"/>
        <c:axId val="72303286"/>
      </c:barChart>
      <c:catAx>
        <c:axId val="46035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3286"/>
        <c:crosses val="autoZero"/>
        <c:auto val="1"/>
        <c:lblAlgn val="ctr"/>
        <c:lblOffset val="100"/>
        <c:noMultiLvlLbl val="0"/>
      </c:catAx>
      <c:valAx>
        <c:axId val="72303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5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CA7-25C6-4E6F-A8E6-F63E79ED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74A-DF79-49D4-A7FB-A00D4270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2E2-A975-490C-888C-697CE12D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D0F-57F3-4E4A-B3E2-526FCD0D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D02-43E8-42BA-B035-AC839E61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4BB-EF6F-4F87-AA02-EB81238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656-FAF4-430D-AFC2-3F4155A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C07-B266-4205-8756-B18564C2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5D7-A1CF-43BA-B822-F3D2FFB8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9DA-1591-4835-A55A-CB06FBA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A67-1F09-4C27-A1F5-41E4637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A85-A192-468C-ADF4-BF657D9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E1C50-2E34-4934-8FDC-B3EF7522C7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