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368448"/>
        <c:axId val="33817414"/>
      </c:barChart>
      <c:catAx>
        <c:axId val="153684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817414"/>
        <c:crosses val="autoZero"/>
        <c:auto val="1"/>
        <c:lblAlgn val="ctr"/>
        <c:lblOffset val="100"/>
        <c:noMultiLvlLbl val="0"/>
      </c:catAx>
      <c:valAx>
        <c:axId val="338174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3684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B95-D806-4521-89C5-EC230C1D4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96C8-E9CA-453A-9EF0-B31ACAA3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ED6E-5169-431E-B176-BA9A514C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8AA-8390-4792-9692-33A315D1C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338-D2AA-43D6-BAB5-93F8B5E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203E-5FD9-4BC9-9AA2-5D970C8F7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E820-A8F7-4F67-A34D-4D4EB5E6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AFFC-F686-4B05-940F-D5DBAA443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532-C800-4757-9EB4-522F3D29E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A932-B115-4758-96D1-6F685A8E9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A94-3B32-4420-9429-4E29C1CAC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916-F25F-4C57-8B98-5C18C19C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F70F1-2707-4730-A67F-1299623366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