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07036"/>
        <c:axId val="6601259"/>
      </c:barChart>
      <c:catAx>
        <c:axId val="27407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259"/>
        <c:crosses val="autoZero"/>
        <c:auto val="1"/>
        <c:lblAlgn val="ctr"/>
        <c:lblOffset val="100"/>
        <c:noMultiLvlLbl val="0"/>
      </c:catAx>
      <c:valAx>
        <c:axId val="6601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07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C7D-FD5C-4631-858A-094DA4E5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DA2-3112-4B22-85D8-51F318EF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D2E-61C3-4CF0-AF58-483D89C4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9D6-9FCC-4023-99EF-A1609023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0BA-318D-418E-ACA1-74AFA6C9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3B8-B169-4A24-82D3-4B15B213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ADE-6434-4F0B-9FE2-1702ACFD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1C9-A70C-46B7-96C9-445E3D1A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A7D-E591-4CCF-815A-DB1645B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A9C-A655-4ECE-9216-A26095E3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6BA-25BC-4432-A33C-B9763CEB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8E7-8CC5-4D0F-A4F3-BF20F12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03DA8-86A1-4E79-8F67-CC0BB74F7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