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61291"/>
        <c:axId val="80879677"/>
      </c:barChart>
      <c:catAx>
        <c:axId val="48161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9677"/>
        <c:crosses val="autoZero"/>
        <c:auto val="1"/>
        <c:lblAlgn val="ctr"/>
        <c:lblOffset val="100"/>
        <c:noMultiLvlLbl val="0"/>
      </c:catAx>
      <c:valAx>
        <c:axId val="80879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1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C1A-0F91-43D8-BEFF-B1D3CBD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9B9-703F-44BD-892A-0DDE8737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962-150F-4400-B6F6-C8AD936D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6DA-6D29-421C-B1FE-826CB6A3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AE5-6402-4C15-A39A-7A4FEBC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191-3516-4634-B2E8-F7C18CA3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2AA-6748-4803-AE02-5404615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B26-ED83-4964-A403-199EBA7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B34-E6FA-4096-A6DB-6B96AA7B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8E6-FAB8-44DE-A637-6635C31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FAB-E714-4775-B27A-631B139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255-40AA-4A1A-9394-7AE5719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E7450-2D91-4420-BD64-804A034AB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