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75818"/>
        <c:axId val="56960938"/>
      </c:barChart>
      <c:catAx>
        <c:axId val="20675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60938"/>
        <c:crosses val="autoZero"/>
        <c:auto val="1"/>
        <c:lblAlgn val="ctr"/>
        <c:lblOffset val="100"/>
        <c:noMultiLvlLbl val="0"/>
      </c:catAx>
      <c:valAx>
        <c:axId val="56960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75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2D4-CA63-4B79-AA4A-70651C61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973-7FBD-487F-A957-C658AFB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7C8-6018-45D7-B94F-534F55A3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93C-E468-4A83-A926-BC957E32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356-1193-43E1-8549-03771C16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50F-BA4C-4739-9187-91D76961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B75-6B34-41CF-8DB7-837CF1B9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52D-CDA3-49AD-86C9-E8C06BA1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C67-9A03-4461-9645-161077B9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1B5-E9B4-4C91-96F9-FCC5E38C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972-9551-4E28-93CD-ACDC0420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944-503F-4485-B13B-06A30ACE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4E199-779B-4BA3-A974-9F59651B20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