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75414"/>
        <c:axId val="54410448"/>
      </c:barChart>
      <c:catAx>
        <c:axId val="85075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10448"/>
        <c:crosses val="autoZero"/>
        <c:auto val="1"/>
        <c:lblAlgn val="ctr"/>
        <c:lblOffset val="100"/>
        <c:noMultiLvlLbl val="0"/>
      </c:catAx>
      <c:valAx>
        <c:axId val="54410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75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BB5-DE7B-4585-AC6E-675EBB2E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C52-EC34-4EDA-A4B7-AE0366AC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A31-2EA2-4703-A594-A03D4680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89D-FACD-4A91-889B-40798C6C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5F7-F0DA-47DB-8A32-61FCA50F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BA2-045D-4334-9BD8-81621C6F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DF1-3DFB-431C-868D-02FB3B48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16A-ECCC-43B8-8954-A8A1614F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1C2-05AF-4FDE-A9BB-B4539822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27E-1398-42B9-83CD-D7513EF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09D-6E63-4962-9209-CCF105F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4F2-1225-4CBE-AC2D-6C8670D6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D3184-AAAF-4960-B0F1-239C75229E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