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53038"/>
        <c:axId val="58935568"/>
      </c:barChart>
      <c:catAx>
        <c:axId val="67353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35568"/>
        <c:crosses val="autoZero"/>
        <c:auto val="1"/>
        <c:lblAlgn val="ctr"/>
        <c:lblOffset val="100"/>
        <c:noMultiLvlLbl val="0"/>
      </c:catAx>
      <c:valAx>
        <c:axId val="58935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3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11D-F119-4F32-A2B4-A8B78CD8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EE7-1BA8-4D9A-9051-638E6990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E61-9432-42EF-9741-D379B923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94A-1EF2-40BF-B579-CDF995B9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3F8-3021-4E34-97CF-EEB91471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1AD-A7E7-4D2F-BFDF-96F6E83E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AB4-9927-47D8-A588-02A03947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471-AD4F-4CBA-A653-46652BE6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953-10EB-4EC5-9E42-6E4248F1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382-56B8-41A8-9242-5BECF2A3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D09-3C88-4CED-AFAC-D979B71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27F-305E-44FE-B885-A2377FBC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BD02C-0E53-4519-A766-A2E6F0E7F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