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4704"/>
        <c:axId val="59919282"/>
      </c:barChart>
      <c:catAx>
        <c:axId val="7694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19282"/>
        <c:crosses val="autoZero"/>
        <c:auto val="1"/>
        <c:lblAlgn val="ctr"/>
        <c:lblOffset val="100"/>
        <c:noMultiLvlLbl val="0"/>
      </c:catAx>
      <c:valAx>
        <c:axId val="599192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4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5AF-6052-4127-B357-3496B60D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56B-A3FF-4228-83BB-5C553F92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906-5473-43FE-BDAF-22139F6A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4A3-F030-424D-A957-179FB3C2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194-4066-4118-B655-9223709C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89B-DEFA-4747-9978-B68A4416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0FC-4256-4781-BCEC-48E35FE7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EBC-A675-4C0D-9BED-7A511A26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6E4-5114-4E54-9D21-D50605D5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514-4D24-4531-8FA4-E23D51F7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80C-8872-45BA-9EE9-BE7C634E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80C-46CD-442B-AEC8-86C0F9D9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83649-3F7F-4282-AC5A-62E1EB3390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