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94581"/>
        <c:axId val="82861140"/>
      </c:barChart>
      <c:catAx>
        <c:axId val="76194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61140"/>
        <c:crosses val="autoZero"/>
        <c:auto val="1"/>
        <c:lblAlgn val="ctr"/>
        <c:lblOffset val="100"/>
        <c:noMultiLvlLbl val="0"/>
      </c:catAx>
      <c:valAx>
        <c:axId val="82861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94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1FE-B096-4CD2-9D30-1CD816D8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09B-65C1-49E5-B0CE-D1E7DE4D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327-03BF-42F5-8BE8-E826AD9D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7A5-63F4-4FEC-8A4E-F3D19EEB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BC9-AA7D-4509-A0C1-3745CDA4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2A5-06F4-4759-ABD7-A3E67DD6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1D7-68BB-445B-940E-48E84601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C79-4BE7-484F-A8C3-81519E30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6A9-246B-4A13-B12F-82E0EDF0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2A4-17C2-4F53-BF0F-7A4F591F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996-982A-40F5-A443-8C53C735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C17-3A9E-4A0B-96F6-187D50BE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8FEC0-44D4-4830-81B6-60DF00ADE7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