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5000"/>
        <c:axId val="49129717"/>
      </c:barChart>
      <c:catAx>
        <c:axId val="15785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29717"/>
        <c:crosses val="autoZero"/>
        <c:auto val="1"/>
        <c:lblAlgn val="ctr"/>
        <c:lblOffset val="100"/>
        <c:noMultiLvlLbl val="0"/>
      </c:catAx>
      <c:valAx>
        <c:axId val="49129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5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0B1-D0C9-4564-A0B5-A73C316D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3C0-0EE1-4B31-BBB6-B9EA167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6C1-F5FC-4A7B-8EBE-9931E55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D04-5C52-4C72-BB69-F889C077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55D-874E-4BAF-8713-8F1E1C8B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FB1-9FBE-417F-918B-21C4DC02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5B3-621D-405D-A5AA-C3F7737A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AAC-C52A-4704-9BF6-2F1467A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186-C242-44B3-B946-9ACE9526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BAB-4F64-4787-9F3C-8873AEC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168-1ACE-4B27-9212-CA48E48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E76-419B-460E-9EFB-911A59D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6E4F9-A811-49A5-8B5A-6054C6F60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