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26809"/>
        <c:axId val="87178419"/>
      </c:barChart>
      <c:catAx>
        <c:axId val="72026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78419"/>
        <c:crosses val="autoZero"/>
        <c:auto val="1"/>
        <c:lblAlgn val="ctr"/>
        <c:lblOffset val="100"/>
        <c:noMultiLvlLbl val="0"/>
      </c:catAx>
      <c:valAx>
        <c:axId val="87178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6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BC5-3FDE-4047-B880-070FE192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719-603C-4E13-B2B0-E0A854C0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9AD-0032-491F-A9BD-7BC10CF8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4F8-B7E2-4D37-8B1E-A5C8F609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3A8-F240-44BB-90D7-EE40A552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012-F96A-4CFE-A692-7F5815E0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9D7-C6F2-46E4-9F42-4A97DA75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087-8149-4083-8137-981F3EF0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700-42D0-4F51-AA69-84CFBDB8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DF6-ABB1-4C2B-9D89-71EEC26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7DE-6D36-496A-82D0-70AA2EFA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47D-9978-457F-9996-3011A25A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7CAA3-5DC0-475B-AF22-0DB695199E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