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219058"/>
        <c:axId val="44192027"/>
      </c:barChart>
      <c:catAx>
        <c:axId val="362190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192027"/>
        <c:crosses val="autoZero"/>
        <c:auto val="1"/>
        <c:lblAlgn val="ctr"/>
        <c:lblOffset val="100"/>
        <c:noMultiLvlLbl val="0"/>
      </c:catAx>
      <c:valAx>
        <c:axId val="441920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2190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618A-BF72-4A95-994F-08229785D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9B2B-56EF-4910-B3CC-789EDB0AA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2760-9665-43AB-85C9-3C942712D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5879-2219-47F1-BCD6-B6665F058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4A7D-E9D0-42A8-9A69-FA2AC582E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235C-F414-4AA7-9FF4-EADEC5D05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9B09-4BFC-4CAE-9ADE-4D478C3D9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6618-0825-43CF-B858-35DBDA4B5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F948-2C28-464C-BEFF-A6C2C11F1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16C7-B8F3-4785-8193-41CADF83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41A6-AE18-4870-A11E-270F9980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C346-04D3-4109-A5CA-4363E2C6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09AE03-EE66-461A-ABE1-0C24523D700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