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15225"/>
        <c:axId val="27556032"/>
      </c:barChart>
      <c:catAx>
        <c:axId val="44515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56032"/>
        <c:crosses val="autoZero"/>
        <c:auto val="1"/>
        <c:lblAlgn val="ctr"/>
        <c:lblOffset val="100"/>
        <c:noMultiLvlLbl val="0"/>
      </c:catAx>
      <c:valAx>
        <c:axId val="27556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5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8BC-C0DB-41A1-9F33-E43A99B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C0B-138C-4514-9F60-B4F566C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864-4CDC-4030-8AB7-E31D0B24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069-87CC-4DD9-9D49-9A0E319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FA6-A177-41A3-A318-34ADC47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497-7FBD-4C5C-9087-B621F3E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004-83E1-4BA2-994A-C99FA4E3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914-8486-4C4E-8981-42EB1A99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6CC-4C99-44F0-B0B8-C27B86D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24E-D3FD-4247-8896-92A3F9F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496-291D-49DA-8144-CB9757B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E3D-9AB2-46A5-AFC2-554C5DE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24F23-9D20-4B3A-983F-7CF981E934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