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804592"/>
        <c:axId val="90511027"/>
      </c:barChart>
      <c:catAx>
        <c:axId val="258045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11027"/>
        <c:crosses val="autoZero"/>
        <c:auto val="1"/>
        <c:lblAlgn val="ctr"/>
        <c:lblOffset val="100"/>
        <c:noMultiLvlLbl val="0"/>
      </c:catAx>
      <c:valAx>
        <c:axId val="90511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045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CBAB-07F6-4BC3-A040-3AC32399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2A78-7342-4F04-B0E4-79F571F6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FC96-B41D-4F77-B6FA-52ED434A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750-2626-4511-AB42-0642A5FF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418-75E7-45B0-AD95-A00200F7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FA1A-AF66-4316-B327-BCEF1673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8A5D-FF07-42C9-81F4-B10E4F58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E4DB-21D6-42A3-BF4C-9C863B19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8215-9A53-449F-8BB2-21E5D016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AA1F-56F8-4257-A93D-C6F77D7E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9345-8B3C-4A40-B5E2-1E7548BD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DB2F-8B38-438B-8B74-F7D9CCFD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C3F80-A0CF-4020-82D5-96FA08CE14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