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6457"/>
        <c:axId val="5052285"/>
      </c:barChart>
      <c:catAx>
        <c:axId val="46756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285"/>
        <c:crosses val="autoZero"/>
        <c:auto val="1"/>
        <c:lblAlgn val="ctr"/>
        <c:lblOffset val="100"/>
        <c:noMultiLvlLbl val="0"/>
      </c:catAx>
      <c:valAx>
        <c:axId val="5052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6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4D6-2580-454A-BA40-56EC9C7C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102-B59A-4C26-914E-9C63DA92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F80-AF3B-4162-95EF-38ED6376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D0D-53AE-41DD-813B-6818D64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20D-F3E4-43EF-9DB2-FC044A7E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310-AA90-43B3-A676-5C73083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292-2A8A-4CE4-9EDF-A7D932E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E8D-162A-424B-931B-75BC277C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64F-2FE3-4105-BD0C-269B24A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5A2-5231-4462-87AC-C60EF4C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144-4B8A-4884-A7D5-DA3F97E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CCB-7446-4F83-A86A-204F6DA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CBD7D-B77C-433B-98D9-E385D61DF9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