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38344"/>
        <c:axId val="21842972"/>
      </c:barChart>
      <c:catAx>
        <c:axId val="67938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42972"/>
        <c:crosses val="autoZero"/>
        <c:auto val="1"/>
        <c:lblAlgn val="ctr"/>
        <c:lblOffset val="100"/>
        <c:noMultiLvlLbl val="0"/>
      </c:catAx>
      <c:valAx>
        <c:axId val="21842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38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DD2-67A6-461E-B488-8EECBCEA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922-9CFB-4573-8C7B-E889510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6CB-06FA-4C2C-8080-D200D971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B32-4C79-427C-8904-23D997DC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E42-44C9-42B2-8770-6525B326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43F-DD81-4F6E-8330-C91A3239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EB2-286E-4A2D-B3B0-255C51F4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77E-A6B9-4625-B7F7-51002674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B5F-887B-4C85-B17F-05145B37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6A6-E12F-4BF2-9F06-3FECAEAD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9D1-9741-47AE-A949-75E7146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015-E8C9-427A-AAD1-687BA82F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30321-4FBA-41EF-BE6C-F60121888A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