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848473"/>
        <c:axId val="49349355"/>
      </c:barChart>
      <c:catAx>
        <c:axId val="268484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49355"/>
        <c:crosses val="autoZero"/>
        <c:auto val="1"/>
        <c:lblAlgn val="ctr"/>
        <c:lblOffset val="100"/>
        <c:noMultiLvlLbl val="0"/>
      </c:catAx>
      <c:valAx>
        <c:axId val="493493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484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FED3-C636-41BD-B80B-B688D86F9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5F7E-0E7F-4124-863F-7F963196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6384-1C40-45F6-B745-DC3B6A06E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DF01-C1E5-4562-BE3F-2DFFE3146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97CB-6B08-46EF-BBB4-7D386D6E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FF17-CA92-45C6-8A82-D8D80FA6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48AC-ADC3-40E4-B58F-39C24DE2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7815-691D-4C14-A170-22495140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200F-43E7-4FDB-9CCF-87AD268C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C100-A550-49F7-8E18-128FEAA4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DF39-463F-44CF-A071-132333B3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C539-4C6B-48AD-A910-19A6735F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C2F0C-0458-418E-AC49-3C26FABC6D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