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72433"/>
        <c:axId val="69040560"/>
      </c:barChart>
      <c:catAx>
        <c:axId val="74472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0560"/>
        <c:crosses val="autoZero"/>
        <c:auto val="1"/>
        <c:lblAlgn val="ctr"/>
        <c:lblOffset val="100"/>
        <c:noMultiLvlLbl val="0"/>
      </c:catAx>
      <c:valAx>
        <c:axId val="69040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2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83F-0CF0-477F-AC62-AC8AB0A4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CAE-0EEB-4358-BADB-5F856C2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247-6FB4-474F-B3E8-5A0C6707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92E-6830-41BD-BD76-30ABEC34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7C6-B4AF-4158-801F-526AB3D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573-10A1-4532-AF82-D30FAB69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416-AE54-43C9-A8A6-AE677F4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926-DCB6-4EFB-8C14-0CAB77B6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586-00EA-4E55-8984-63B436B8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217-7477-4D5D-83E0-A7A6C2C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080-6336-40A0-875C-0E3CC2F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7E1-AC45-4B13-B8FB-3A8CAD7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63634-DF7C-4436-8065-A828999E17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