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313165"/>
        <c:axId val="69880347"/>
      </c:barChart>
      <c:catAx>
        <c:axId val="923131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880347"/>
        <c:crosses val="autoZero"/>
        <c:auto val="1"/>
        <c:lblAlgn val="ctr"/>
        <c:lblOffset val="100"/>
        <c:noMultiLvlLbl val="0"/>
      </c:catAx>
      <c:valAx>
        <c:axId val="698803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3131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699E-0B6E-431F-92CC-026E898DB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C894-8588-4681-B513-3026C21C9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D570-F49E-49C3-BF1A-C242030C7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AB59-D7AF-45F2-8197-B2636BCA8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FBBF-A869-48AF-AF54-79252C745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BCF3-4503-4483-BC5C-8007DAF07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F9B9-40AA-4507-9C2D-D4D1534CE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4919-AC6E-49C4-B1AC-F6572647C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0769-782C-420C-89AC-71B7BAC1E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5D76-8BFD-4169-BF2B-3804DDC2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92D5-1086-406A-B95F-15FB1CA4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066A-7C38-436A-8F5D-F9C1F3AF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135116-B094-49F5-8183-EC7317BACA2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