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90487"/>
        <c:axId val="74923112"/>
      </c:barChart>
      <c:catAx>
        <c:axId val="59890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23112"/>
        <c:crosses val="autoZero"/>
        <c:auto val="1"/>
        <c:lblAlgn val="ctr"/>
        <c:lblOffset val="100"/>
        <c:noMultiLvlLbl val="0"/>
      </c:catAx>
      <c:valAx>
        <c:axId val="74923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90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6AF-F7FB-4A65-820A-E8429B56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944-C041-43E6-8AA9-4E888F0F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141-E3C9-4249-BDDE-4060828F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E57-B9AA-4493-9E2D-F9C19197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F07-28FB-4F4D-94A7-C66C78B1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E62-72CB-4C11-9139-F40AFC28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F2C-04A8-43CA-BD0D-13C6C93C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706-C5A4-4B5E-B3DF-59DF5F00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57A-C573-4FB1-829A-31524304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243-EFA3-4D5B-B7FB-32DFBB77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8B3-9B47-4F68-B1CB-9D4960D8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0D1-E093-4165-8D54-3F46AB39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D6142-DC4C-40AC-BE23-347DF369E7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