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74672"/>
        <c:axId val="70790094"/>
      </c:barChart>
      <c:catAx>
        <c:axId val="89174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90094"/>
        <c:crosses val="autoZero"/>
        <c:auto val="1"/>
        <c:lblAlgn val="ctr"/>
        <c:lblOffset val="100"/>
        <c:noMultiLvlLbl val="0"/>
      </c:catAx>
      <c:valAx>
        <c:axId val="70790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4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372-182F-44E0-A854-79F0E96A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826-9C82-4E94-95EA-51BF0739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5F4-D207-4482-892A-C68B1E03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E8C-105E-43C9-90C3-C8D3639C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395-39A6-4826-85C7-F9803AF0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5C6-0D1C-495D-892D-B64368C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C86-1790-46AD-8F70-6EA051B0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8FF-D62C-4343-BED9-0E2A96E5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E11-381F-4499-9AE4-822BDFB2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31A-20AA-4E65-B929-DDD5CFD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5F0-7A55-4B45-A0A1-F8E676B3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619-1CA3-445E-AC31-923DA79D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27E8D-450E-47B3-87F1-F4F3D688E5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