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53276"/>
        <c:axId val="96331611"/>
      </c:barChart>
      <c:catAx>
        <c:axId val="91553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1611"/>
        <c:crosses val="autoZero"/>
        <c:auto val="1"/>
        <c:lblAlgn val="ctr"/>
        <c:lblOffset val="100"/>
        <c:noMultiLvlLbl val="0"/>
      </c:catAx>
      <c:valAx>
        <c:axId val="96331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53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B75-9A7B-41F2-A084-185009D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383-788E-4E2E-85E6-3615071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B12-0CC0-458E-A560-795F4FAC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B7D-CD7B-412C-9F46-3EDB9252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BB2-C5A1-4324-87D5-C5A980A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A71-9DD8-49F9-9B2B-AB80F07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2D3-F696-4A62-B9FB-D1B2A2AF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366-EECE-43B6-84C7-A9F00F6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CDF-A0BD-4918-A37D-4922A6F4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F8D-D2FE-4EE7-9B66-A942FA1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92D-0C8C-4C3F-92D0-953E4C3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297-825E-4696-B20C-8C5EB35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1F4D9-FCF9-4716-8BC5-95A5DDB21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