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62"/>
        <c:axId val="8277127"/>
      </c:barChart>
      <c:catAx>
        <c:axId val="87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7127"/>
        <c:crosses val="autoZero"/>
        <c:auto val="1"/>
        <c:lblAlgn val="ctr"/>
        <c:lblOffset val="100"/>
        <c:noMultiLvlLbl val="0"/>
      </c:catAx>
      <c:valAx>
        <c:axId val="8277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E12-195B-494B-BB3A-4FDC1368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F96-96F2-4DAB-93CE-EB314A1D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C83-DFD2-4E40-845E-3A1AD6A3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B3E-B168-49FF-81AE-17ADFAFF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990-4E5D-47CA-983F-77FB083C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296-C059-41B3-A66B-77E53E96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5A9-6D47-4381-B06D-1EBAC32F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E05-9551-4326-A9B3-1F15CC43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5EE-4FE6-409F-BBBD-E8715F40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0EB-8B04-40D6-836C-79798CCA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833-1A34-4B60-B501-23BE1786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F42-CFBF-4B87-B76E-272B58C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7CBF2-6A72-4D0F-9948-08DC9061B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