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27325"/>
        <c:axId val="12288830"/>
      </c:barChart>
      <c:catAx>
        <c:axId val="390273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88830"/>
        <c:crosses val="autoZero"/>
        <c:auto val="1"/>
        <c:lblAlgn val="ctr"/>
        <c:lblOffset val="100"/>
        <c:noMultiLvlLbl val="0"/>
      </c:catAx>
      <c:valAx>
        <c:axId val="122888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273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CAE-799C-4C33-A9CE-57BF5311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2E0-D571-4D9F-9D4C-56379F95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51F-9F64-4A85-89C1-699C66C5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B55-FCFB-492A-9EC9-D0EB192F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F7A-ECA4-4EF5-B221-5E104573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6FF0-951F-4B14-B536-294A0A97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11C2-BE0C-49FC-BE0C-BB0382E0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EFF3-EFF3-4F9C-B53C-85C96842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73D6-824A-41CC-9E2E-CEDD5ED7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92CD-E146-4F6B-8078-A77D89B9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3604-3616-451D-8C9F-71A6D7CB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68C6-F15D-46B6-A0E2-4A624F18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F6871-6918-416A-A7AA-F7B45A227C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