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69731"/>
        <c:axId val="2817379"/>
      </c:barChart>
      <c:catAx>
        <c:axId val="41669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7379"/>
        <c:crosses val="autoZero"/>
        <c:auto val="1"/>
        <c:lblAlgn val="ctr"/>
        <c:lblOffset val="100"/>
        <c:noMultiLvlLbl val="0"/>
      </c:catAx>
      <c:valAx>
        <c:axId val="2817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69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D1B-EF63-45A7-8652-4EE4C8E3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875-7C2F-4E46-A2C0-4DDF4D67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173-9D8E-44B4-B6CE-5E163BB0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81D-E582-4B7A-9A3F-26FD8C3B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B25-9B61-4326-9126-EB80A3D2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946-0FB7-441F-9EF2-79E4F290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329-F7A4-46F5-B59E-C3C76B81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DBE-EFB8-4CB9-92ED-FE9A05AE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D38-C0CE-4333-AFCC-665CFC21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0A7-DF07-46BF-BF2B-BA7E286E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E83-A12C-49AA-9D32-4773D7DA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16F-2EF1-4410-AD40-7FDE50FC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3BAE4-6407-4BE0-A705-3E3D8601C3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