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685933"/>
        <c:axId val="1846055"/>
      </c:barChart>
      <c:catAx>
        <c:axId val="32685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6055"/>
        <c:crosses val="autoZero"/>
        <c:auto val="1"/>
        <c:lblAlgn val="ctr"/>
        <c:lblOffset val="100"/>
        <c:noMultiLvlLbl val="0"/>
      </c:catAx>
      <c:valAx>
        <c:axId val="18460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85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5BD6-7343-4960-8DD3-80B94EF0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1421-56D9-4789-8639-D4ACBAA7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DB9F-50C0-42D4-896D-1335E3BD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9DFB-E0B9-4222-A5FC-B595E1E2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F3A1-CC09-4C9E-B98F-75C0EFD3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5C1F-0673-408B-94F2-B652F574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18C7-C398-4681-A7DC-49BC63B9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FF85-FA0A-462E-BFDF-41FCEE58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C32B-8C9F-4343-A6E1-F89947CE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CEF6-338A-43C7-A047-54F99AE7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F5C0-8B33-4E17-98CD-13C01429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C9C7-5D65-458B-9BA5-4D974288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A9EF1-5CA9-4BC1-A99B-B9EE9C8907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